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D835C-DD8A-4AD3-A0FF-D7097E018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CD05B-4246-4CA2-B590-6FA8AB65D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452E5-8EC0-40BC-B973-F6616E1E2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70DCF-C877-45C3-8931-4C7AFFD02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BF04E-4AA5-4A58-97B4-07A4DA79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58A4-07B6-4DB6-8C02-F16851B47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E466B-856A-4189-A3A2-8718B463A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F3A21-899D-40EB-B777-588ABE10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AB53B-3F8F-471B-AEE8-6C25BAC6F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3454-4997-48FB-A7D9-A399B90D1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138BF-3330-4EAF-B746-6FE231A8D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EE3C-2CF2-4CD9-8B7E-2EC8D3D97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C708-CF10-4300-A2C5-B5E9E72A5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سادس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نحل/الآيات </a:t>
            </a:r>
            <a:r>
              <a:rPr b="0" lang="en-US" sz="3200" spc="-1" strike="noStrike">
                <a:solidFill>
                  <a:srgbClr val="000000"/>
                </a:solidFill>
                <a:latin typeface="Times New Roman"/>
              </a:rPr>
              <a:t>90</a:t>
            </a:r>
            <a:r>
              <a:rPr b="0" lang="en-US" sz="3200" spc="-1" strike="noStrike">
                <a:solidFill>
                  <a:srgbClr val="000000"/>
                </a:solidFill>
                <a:latin typeface="Times New Roman"/>
              </a:rPr>
              <a:t>-</a:t>
            </a:r>
            <a:r>
              <a:rPr b="0" lang="en-US" sz="3200" spc="-1" strike="noStrike">
                <a:solidFill>
                  <a:srgbClr val="000000"/>
                </a:solidFill>
                <a:latin typeface="Times New Roman"/>
              </a:rPr>
              <a:t>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914040"/>
            <a:ext cx="8686800" cy="56386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إِنَّ اللَّهَ يَأْمُرُ بِالْعَدْلِ وَالْإِحْسَانِ وَإِيتَاءِ ذِي الْقُرْبَى وَيَنْهَى عَنِ الْفَحْشَاءِ وَالْمُنْكَرِ وَالْبَغْيِ يَعِظُكُمْ لَعَلَّكُمْ تَذَكَّرُونَ (</a:t>
            </a:r>
            <a:r>
              <a:rPr b="0" lang="ar-SA" sz="3200" spc="-1" strike="noStrike">
                <a:solidFill>
                  <a:srgbClr val="000000"/>
                </a:solidFill>
                <a:latin typeface="Times New Roman"/>
                <a:ea typeface="Traditional Arabic"/>
              </a:rPr>
              <a:t>90</a:t>
            </a:r>
            <a:r>
              <a:rPr b="0" lang="ar-SA" sz="3200" spc="-1" strike="noStrike">
                <a:solidFill>
                  <a:srgbClr val="000000"/>
                </a:solidFill>
                <a:latin typeface="Times New Roman"/>
                <a:ea typeface="Traditional Arabic"/>
              </a:rPr>
              <a:t>) وَأَوْفُوا بِعَهْدِ اللَّهِ إِذَا عَاهَدْتُمْ وَلَا تَنْقُضُوا الْأَيْمَانَ بَعْدَ تَوْكِيدِهَا وَقَدْ جَعَلْتُمُ اللَّهَ عَلَيْكُمْ كَفِيلًا إِنَّ اللَّهَ يَعْلَمُ مَا تَفْعَلُونَ (</a:t>
            </a:r>
            <a:r>
              <a:rPr b="0" lang="ar-SA" sz="3200" spc="-1" strike="noStrike">
                <a:solidFill>
                  <a:srgbClr val="000000"/>
                </a:solidFill>
                <a:latin typeface="Times New Roman"/>
                <a:ea typeface="Traditional Arabic"/>
              </a:rPr>
              <a:t>91</a:t>
            </a:r>
            <a:r>
              <a:rPr b="0" lang="ar-SA" sz="3200" spc="-1" strike="noStrike">
                <a:solidFill>
                  <a:srgbClr val="000000"/>
                </a:solidFill>
                <a:latin typeface="Times New Roman"/>
                <a:ea typeface="Traditional Arabic"/>
              </a:rPr>
              <a:t>) وَلَا تَكُونُوا كَالَّتِي نَقَضَتْ غَزْلَهَا مِنْ بَعْدِ قُوَّةٍ أَنْكَاثًا تَتَّخِذُونَ أَيْمَانَكُمْ دَخَلًا بَيْنَكُمْ أَنْ تَكُونَ أُمَّةٌ هِيَ أَرْبَى مِنْ أُمَّةٍ إِنَّمَا يَبْلُوكُمُ اللَّهُ بِهِ وَلَيُبَيِّنَنَّ لَكُمْ يَوْمَ الْقِيَامَةِ مَا كُنْتُمْ فِيهِ تَخْتَلِفُونَ (</a:t>
            </a:r>
            <a:r>
              <a:rPr b="0" lang="ar-SA" sz="3200" spc="-1" strike="noStrike">
                <a:solidFill>
                  <a:srgbClr val="000000"/>
                </a:solidFill>
                <a:latin typeface="Times New Roman"/>
                <a:ea typeface="Traditional Arabic"/>
              </a:rPr>
              <a:t>92</a:t>
            </a:r>
            <a:r>
              <a:rPr b="0" lang="ar-SA" sz="3200" spc="-1" strike="noStrike">
                <a:solidFill>
                  <a:srgbClr val="000000"/>
                </a:solidFill>
                <a:latin typeface="Times New Roman"/>
                <a:ea typeface="Traditional Arabic"/>
              </a:rPr>
              <a:t>) وَلَوْ شَاءَ اللَّهُ لَجَعَلَكُمْ أُمَّةً وَاحِدَةً وَلَكِنْ يُضِلُّ مَنْ يَشَاءُ وَيَهْدِي مَنْ يَشَاءُ وَلَتُسْأَلُنَّ عَمَّا كُنْتُمْ تَعْمَلُونَ (</a:t>
            </a:r>
            <a:r>
              <a:rPr b="0" lang="ar-SA" sz="3200" spc="-1" strike="noStrike">
                <a:solidFill>
                  <a:srgbClr val="000000"/>
                </a:solidFill>
                <a:latin typeface="Times New Roman"/>
                <a:ea typeface="Traditional Arabic"/>
              </a:rPr>
              <a:t>93</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0"/>
            <a:ext cx="7772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762120"/>
          <a:ext cx="8686800" cy="5851440"/>
        </p:xfrm>
        <a:graphic>
          <a:graphicData uri="http://schemas.openxmlformats.org/drawingml/2006/table">
            <a:tbl>
              <a:tblPr/>
              <a:tblGrid>
                <a:gridCol w="4343400"/>
                <a:gridCol w="4343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01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 بالعدل الإنصاف، وأعظم الإنصاف الاعتراف للمنعم بنعمت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عفو، وقيل:أن تعبد الله كأنك تر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قبح من القول والفعل ، وقيل: الز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كره بالنهي عنه، وهو يعم جميع المعاصي والرذائل والدناءات على اختلاف أنواع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الكبر والظلم والحقد والتعدي، وحقيقته:تجاوز الحد.وهو داخل تحت المنكر ،لكنه تعالى خصه بالذكر اهتماماً به لشدة ضرر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له يأمر بالعد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إحس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نهى عن الفح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منك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بغ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670800"/>
        </p:xfrm>
        <a:graphic>
          <a:graphicData uri="http://schemas.openxmlformats.org/drawingml/2006/table">
            <a:tbl>
              <a:tblPr/>
              <a:tblGrid>
                <a:gridCol w="4381560"/>
                <a:gridCol w="4381560"/>
              </a:tblGrid>
              <a:tr h="71334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يثاق الله وعق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عد تشديدها وتغيظها فتحنثوا فيها وإنما قال بعد 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لتفريق بين اليمين المؤكد بالعزم وبين الي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عني شهيداً بالوفا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قضت غزلها من بعد إبرام و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قاضاً، فشبهت هذه الآية الذي يحلف ويعاهد ويبرم عهدة ثم ينقضه بالمرأة تغزل غزلها وتفتله فتلا محكما ثم تح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كراً وخديعة ليطمئنوا إليكم وأنتم مضمرون لهم الغد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عه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قضوا الأيمان بع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وكيد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جعلتهم الله عليكم كف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تي نقضت غزلها من بعد قو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اث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خلا بين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كثر، والمعنى: أنكم تحلفون للناس إذا كانوا أكثر منكم ليطمئنوا إليكم فإذا أمكنكم الغدر بهم غدر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تبركم الله بأمره إليكم بالوفاء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لى ملة واحدة هي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خذلانه إياهم عدلا منه سبحا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توفيقه إياهم فضلاً منه سبحان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 تكون أمة هي أربى من أ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يبلوكم الله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جعلكم أمة واح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ضل من يش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هدي من يش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8080"/>
            <a:ext cx="8763120" cy="56390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مر الله سبحانه بالعدل الذي يشمل العدل في حقه تعالى ،وفي حق عباده، وبالإحسان الذي هو إتقان العبادة ومراعاتها ،ومراقبة اله فيها ، والتعظيم لأمر الله والشفقة على خلقه،ونهى سبحانه عن الفحشاء وعن الإفراط في اتباع داعي الغضب بإيصال الشر إلى الناس وإيذائهم، وعن التكبر على الناس و</a:t>
            </a:r>
            <a:r>
              <a:rPr b="0" lang="ar-JO" sz="3200" spc="-1" strike="noStrike">
                <a:solidFill>
                  <a:srgbClr val="000000"/>
                </a:solidFill>
                <a:latin typeface="Times New Roman"/>
              </a:rPr>
              <a:t>الترفع عليهم وتصعير الخد لهم، فصارت هذه الآية أجمع آية في كتاب الله للخير والشر.</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وهذه الآية جامعة لجميع المأمورات والمنهيات فلم يبق شيء ،إلا دخل فيها،فهي قاعدة ترجع إليها سائر الجزيئات،فكل مسألة مشتملة على عدل أو إحسان أو إيتاء لذي القربى فهي مما أمر الله به وكل مسألة مشتملة على فحشاء أو نمكر أوبغي فهي مما نهى الله عن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3000"/>
          </a:bodyPr>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خص الله إيتاء ذي القربى وإن كان داخلاً في العموم لتأكد حقهم ويتقن صلتهم وبرهم والحرص على ذلك.</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رص على الوفاء بالعهد الذي أوجبه الإنسان على نفسه،وهذا يشمل ما عاهد العبد عليه ربه من العبادات والنذور ونحوها، كما يشمل العهود بين المتعاقدين ،وكالوعد الذي يعده الإنسان لغيره، ويؤكده على نفسه فعليه في جميع ذلك الوفاء وإتمام ذلك مع القدرة.</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يشرع لمن حلف على يمين فرأى غيرها خيراً منها أن يأتي الذي هو خير وأن يكفر عن يمينه.</a:t>
            </a:r>
            <a:endParaRPr b="0" lang="en-US" sz="3200" spc="-1" strike="noStrike">
              <a:solidFill>
                <a:srgbClr val="000000"/>
              </a:solidFill>
              <a:latin typeface="Times New Roman"/>
            </a:endParaRPr>
          </a:p>
          <a:p>
            <a:pPr marL="566640" indent="-56664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سبحانه حال الناقض للعهد بحال من نقضت غزلها بعد فتله وإبرامه تحذيراً للمخاطبين وتنبيهاً إلى أن هذا ليس من فعل العقل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152280"/>
            <a:ext cx="8839440" cy="64771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عقد الأيمان المؤكد المنطوية على الخديعة والغدر وانتظار الفرص فإذا كان العاقد لها ضعيفاً غير قادر على الآخر أتمها ووفى بها لا لتعظيم العقد واليمين بل لعجزه وعدم قدرته،وإن كان قوياً يرى مصلحته الدنيوية في نقضها غير مبال بعهد الله ويمينه،كل ذلك دوراناً مع هوى النفس وتقديماً لها على مراد الله وعلى المروءة الإنسانية والأخلاق المرضية،لأجل أن تكون أمة أو جماعة أو دولة هي أكثر عدداً وقوة من الأخرى.</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و شاء الله سبحانه لجميع الناس على الهدى وجعلهم على ملة واحدة، ولكنه سبحانه-بحكمته وعدله وتوفيقه وفضله-يعطي الهداية من يستحقها ويطلبها ويحرص عليها ويمنعها من لا يستحقها ويعرض عنها، فيهدي من يشاء بفضله وتوفيقه، ويضل من يشاء بحكمته وعد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152280" y="685800"/>
            <a:ext cx="8839440" cy="5943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 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له يأمر بالعدل، وأوفوا بهعد الله، كالتي نقضت غزلها ، أنكاثا،دخلاً بينكم.</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إِنَّ اللَّهَ يَأْمُرُ بِالْعَدْلِ وَالْإِحْسَانِ…</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 هذه الاية هي أجمع آية في كتاب الله للخير والشر ،وجماعة للمأمورات والمنهيات </a:t>
            </a:r>
            <a:r>
              <a:rPr b="0" lang="ar-SA" sz="3200" spc="-1" strike="noStrike">
                <a:solidFill>
                  <a:srgbClr val="000000"/>
                </a:solidFill>
                <a:latin typeface="Times New Roman"/>
              </a:rPr>
              <a:t> ،وضح ذلك.</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من تشبيه حال الناقض للعهد بحال من نقضت للعهد غزلها بعد فتله وإبرام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 ما حكم الأيمان المؤكدة المنطوية على الخديعة والغدر؟</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ما الحكمة من عدم هداية الناس جميعاً وجعلهم على ملة واحد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1T09:23:12Z</dcterms:created>
  <dc:creator>cultural-office</dc:creator>
  <dc:description/>
  <dc:language>en-US</dc:language>
  <cp:lastModifiedBy>cultural-office</cp:lastModifiedBy>
  <dcterms:modified xsi:type="dcterms:W3CDTF">2008-01-19T12:08:10Z</dcterms:modified>
  <cp:revision>6</cp:revision>
  <dc:subject/>
  <dc:title>الدرس السادس </dc:title>
</cp:coreProperties>
</file>